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4E4-7172-4C28-BBD7-B8378413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53D-DA46-46DD-8657-8F75B31D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98096-02B8-4B2E-A77D-4EA1183F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FEEB4-A2BE-4154-88FB-BD92CA86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D7E11-39E8-42EF-AC37-871A248A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0906E-BA83-438D-AAE2-45AD88CC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B1FFC-F631-4A92-87ED-A797540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3AA06-17C2-4845-A555-EE36BAC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097E8-B888-4A3C-B0BF-4517DAA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19436-0A48-4084-85F1-B66A8165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6D11B-BAB9-4AE7-A462-DB1DF489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E3784-ACDE-48AE-A61F-05E68F48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E45-E451-45C1-A1FE-A83CB480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2E7E7-F18A-419D-B5C3-659DF924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C425D-D07E-414F-8F3C-6B4D8503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CB5F2-E3C0-4861-A171-2C9D943D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FE2ED-9850-4167-ABBE-52447A15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89311-4DAE-4B93-8ECD-45536222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A6A99-57BF-45FB-A7D3-8FC3E1FD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0B9EC-EE9F-4814-9F13-D940F59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F3887-3ABB-4321-A20D-67F92E6F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C5156-65A7-45D3-B4BD-1DFEEFAD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22D37-C75C-43EB-85A8-2BC1D707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A34-F00D-44CA-A371-B2BDE487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9FDA8-60E1-4560-B002-CEEC7830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7E469-EF1E-4A1B-8866-F8231E22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D6D00-7BC4-4719-9F3F-91473A95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056DC-25D5-4329-815E-54CEBEB6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AE333-FFBC-4DF2-8E47-F697CED1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A4C52-8CE9-4920-A6C0-4C05F983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A7B9D-83ED-4A81-9A30-E1958988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72AD1-5D5E-4195-8BC7-651452F5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28E33-4D1D-4700-A619-4F38D56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244B2-91D9-4288-A959-1171932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5FCC-F556-4D3A-88CB-92D822FC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9441C-5F02-491F-BF52-6E167079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2738A-FF4C-435D-8500-1889ECA1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4CB9F-7294-44AA-B81D-2F7A82B4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767D4-A76C-46C6-B340-1415CCE2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3188F-7F12-407E-87EF-14F4680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E50C0-A2A6-425B-B1FE-DD5E6846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D99BB-7FC6-431B-BDFB-E3AD3294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EE6E8-24E3-4E4F-9B64-AF37CD2E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D22CA-53DA-4C4B-A403-94AACC9C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374D7-CB97-4872-8A10-0B6530B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7A82-569D-4FD2-92CB-5DBE29DF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DA9CE-5C4E-4C22-AA84-3C3E703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ACEB6-CD59-4F4F-9C38-2F022DB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79CF5-C394-4A9A-82FF-F01AE3BC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B77C7-CDB5-4344-B72D-2F07B359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67714-4995-4EB7-BF8F-10FFA9E8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F696F-0F88-428B-8F86-C2C021EC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7F0F0-2FA9-45F1-9A62-64687C76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0855E-3041-46F3-80E8-B7A3CDFE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E47EB-5F66-42AE-B998-0FE55FC6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98EFD-467F-4D63-9ED8-39A0780C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78D-0D45-48AA-8198-2CF93059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850A2-C78E-425B-8D9D-2C2A7046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90F64-ADF4-4A65-B7EF-49051907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4BD1E-D94C-4880-9B12-DF5DDCBF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C2A41-F3DE-4D1D-A749-5BCA808E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77B1E-A580-4B5A-9F80-9DD1146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83992-A195-4F70-9650-9E4C65F8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118E9-AA86-40D0-BC39-C33F2494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38BE-2023-4F4E-8187-39A226E3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A2AE-61A6-49C2-AC9D-814DBB4F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6812-6BCE-4BF3-B842-0654BF91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6E30-16BF-41FD-B68A-FF1EFB9F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9CB-7323-40F4-8F5C-52FE803C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DF14-5AD8-4B69-8AE5-DA918191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9BDE-30E4-4E32-BB26-63322327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9E0A-5EF6-4E7C-B63A-7FFA0D02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4344-E735-40F8-B6F6-1A9133C9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691D-AC13-41DC-B7FE-62E5062E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E70D7-78B1-4929-9632-B2BD7384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08DA-939B-4688-82D9-5CF2EE7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9711-5E1D-40A6-9966-704F6378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1B79-DEAF-4885-8F57-4E1D5AED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ECCB-3334-4B54-A33A-20F5F41D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134-8403-4537-90C2-2D531686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BBBA-2C87-4B09-AE6E-7C184CA6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7163-A368-464C-9E31-31CF98FF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CFD23-48DB-47C8-AB06-F5364A3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2484-4794-4650-AE40-1C1B73AA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6E150-EF54-48C4-B9E9-B31C02C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FD7F-F921-489F-A1C9-32303A9E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6209-A99D-4B77-85CB-C6585044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0D56-F364-494F-9C17-7761A3E1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62777-6D9A-4E54-BEC7-B970149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638B-5234-45A7-BD4C-68E171D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975-B1EF-4D7D-8A1B-25BEBE7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4CF88-7361-483E-BD1A-72E72189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CA91-C579-444E-9CE5-D2BF8992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AA025-E8D4-43FE-96B4-059C0E7F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5A23-0811-48F4-B720-825E48D9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C356-5C80-404E-8EAD-B6F0913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9C60-1CC9-4CA8-885B-EDD549A2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AC9C1-17A0-42A6-9FEB-F8E45692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4A44-3488-46AC-8FDA-3AEBE229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1EB6-920F-4D18-9CC7-64E84BAE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102BB-1591-437F-A2BC-9C4BA3D7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1C3-C628-416E-91A9-ADB8A8F4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1613C-0BCF-44BF-9BAD-4F2F4090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8BB11-A637-4432-A4A5-F995EDAE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AF442-04C3-4C78-9B7F-6D4AEBDC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8B1C-3860-4395-A6A8-92B6BE54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B820E-523C-415A-BEDA-FE29F4D9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CD82E-3F42-4A97-9A11-156E3FF4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5575-3BF3-4F87-8BD3-B571C53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881F3-8C57-4440-AED3-6857BAA6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E148A-BB3B-42CD-9504-5AF68866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950C5-CAD8-4C5B-8026-31611F54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8A4-E102-4183-BD01-D1E3AA6F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092D0-7593-46A7-A8E2-CF16C0E8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131BE-AFE9-445B-AEEF-4468EF66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A13B3-193C-4196-81FB-37A839A1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FE337-E8DB-4C22-972E-C31B848E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8BCD-16BF-439F-B620-6992B01D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8D9B-67F5-4B5D-B120-EC4E7CD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22996-36BE-44ED-8ED2-EAC8E01B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B9FD-CDCF-41C8-9BA5-DA639C2A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DAFAF-9C6C-4CFB-B3CB-9F51FB79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FA111-A36D-4934-B648-AE5C8768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A86-9168-4F2B-9003-3C445373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2F161-FE4E-46AD-A28A-E2832E58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89681-284B-4290-B071-EBC27E9E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79B94-E50B-44EB-9023-CAE940AD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67A49-10DC-4E21-9928-DB76F695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2D901-2C99-4FE2-9279-2DC8C46F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816B-B00D-492A-921F-85060A01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54BE9-5181-4F0B-A389-9C5EF517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02FA3-1BB3-49BD-B87C-390AB088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AC466-0BF8-4B14-AB7C-5BC2E343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B354F-7996-44C7-8FAC-91DE2BE2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BEA-36F0-4251-8ED4-3ECB0B2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D0579-C013-46DD-907C-C24F025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26F0-5FC5-404D-93CD-FF91F2E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177F8-CD7C-4229-BA1F-11D08ACA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66566-45E5-4C16-A459-BAAF8863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5EDC-2479-4100-8774-39EE906C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03C25-FCC3-4C3A-89AF-E056CA80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7959D-FD3E-43BE-96FA-4E885808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1DB46-11A1-479E-AEA2-8C76B740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4C552-8E94-405A-85DA-C05FA5F8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3093D-1A23-49D2-8B38-7681F97F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2B1-56AF-4AE5-AB20-ECAEAC2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2509B-0285-4FE1-B580-01875FE0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025CE-36D4-4BB7-93C7-E4CFEDFF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CB39C-7A76-4BAA-9BD6-04CA728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575DD-0080-40BC-A799-1578737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53F74-785A-4A2C-A212-74848C0B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C68F2-9652-4955-AA66-8C85CE9F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C5EEB-BCE7-4404-9093-E5EDCFF6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6D869-1736-4BB8-94E0-03923263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D3FBE-B139-4FC5-8790-C8D4D2BC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9FDCA-2CCA-4CF7-9A97-B388C2A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F3D7-99C7-48F3-9C32-FEE0FBBD4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FDCE-1CCD-4272-9EA1-A4CD8DF08E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3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FEA3-9D3A-4F08-BCCC-66EE5A62E8B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5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9B41-CBEC-4328-842A-B453E12C9B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FE7D-D2A5-4A8B-82CE-8ED7026193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45CA-2CA5-491B-B161-0971BA02610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2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335D-5B16-45E2-89A7-E06FEFC067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A2DC-77F4-4E08-85BB-CDCDF2AF74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1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1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2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447E-4285-4E8C-9642-3244DB92B6E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19A7-A844-42C2-8CD1-6B31281F50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F65E-B9AB-47FE-9D32-8DE11D4584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5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6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7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4D51-1A25-4C5A-B3AA-621D77FFF7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2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7E83-61A8-4EE1-9319-C505E2CAFF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8.xml"/><Relationship Id="rId20" Type="http://schemas.openxmlformats.org/officeDocument/2006/relationships/slide" Target="slide19.xml"/><Relationship Id="rId21" Type="http://schemas.openxmlformats.org/officeDocument/2006/relationships/slide" Target="slide26.xml"/><Relationship Id="rId22" Type="http://schemas.openxmlformats.org/officeDocument/2006/relationships/slide" Target="slide27.xml"/><Relationship Id="rId23" Type="http://schemas.openxmlformats.org/officeDocument/2006/relationships/slide" Target="slide28.xml"/><Relationship Id="rId24" Type="http://schemas.openxmlformats.org/officeDocument/2006/relationships/slide" Target="slide29.xml"/><Relationship Id="rId25" Type="http://schemas.openxmlformats.org/officeDocument/2006/relationships/slide" Target="slide30.xml"/><Relationship Id="rId26" Type="http://schemas.openxmlformats.org/officeDocument/2006/relationships/slide" Target="slide31.xml"/><Relationship Id="rId27" Type="http://schemas.openxmlformats.org/officeDocument/2006/relationships/slide" Target="slide38.xml"/><Relationship Id="rId28" Type="http://schemas.openxmlformats.org/officeDocument/2006/relationships/slide" Target="slide39.xml"/><Relationship Id="rId29" Type="http://schemas.openxmlformats.org/officeDocument/2006/relationships/slide" Target="slide40.xml"/><Relationship Id="rId30" Type="http://schemas.openxmlformats.org/officeDocument/2006/relationships/slide" Target="slide41.xml"/><Relationship Id="rId31" Type="http://schemas.openxmlformats.org/officeDocument/2006/relationships/slide" Target="slide42.xml"/><Relationship Id="rId32" Type="http://schemas.openxmlformats.org/officeDocument/2006/relationships/slide" Target="slide43.xml"/><Relationship Id="rId33" Type="http://schemas.openxmlformats.org/officeDocument/2006/relationships/slide" Target="slide50.xml"/><Relationship Id="rId34" Type="http://schemas.openxmlformats.org/officeDocument/2006/relationships/slide" Target="slide51.xml"/><Relationship Id="rId35" Type="http://schemas.openxmlformats.org/officeDocument/2006/relationships/slide" Target="slide52.xml"/><Relationship Id="rId36" Type="http://schemas.openxmlformats.org/officeDocument/2006/relationships/slide" Target="slide53.xml"/><Relationship Id="rId37" Type="http://schemas.openxmlformats.org/officeDocument/2006/relationships/slide" Target="slide54.xml"/><Relationship Id="rId38" Type="http://schemas.openxmlformats.org/officeDocument/2006/relationships/slide" Target="slide55.xml"/><Relationship Id="rId39" Type="http://schemas.openxmlformats.org/officeDocument/2006/relationships/slide" Target="slide62.xml"/><Relationship Id="rId40" Type="http://schemas.openxmlformats.org/officeDocument/2006/relationships/slide" Target="slide63.xml"/><Relationship Id="rId41" Type="http://schemas.openxmlformats.org/officeDocument/2006/relationships/slide" Target="slide64.xml"/><Relationship Id="rId42" Type="http://schemas.openxmlformats.org/officeDocument/2006/relationships/slide" Target="slide65.xml"/><Relationship Id="rId43" Type="http://schemas.openxmlformats.org/officeDocument/2006/relationships/slide" Target="slide66.xml"/><Relationship Id="rId44" Type="http://schemas.openxmlformats.org/officeDocument/2006/relationships/slide" Target="slide67.xml"/><Relationship Id="rId45" Type="http://schemas.openxmlformats.org/officeDocument/2006/relationships/slide" Target="slide74.xml"/><Relationship Id="rId46" Type="http://schemas.openxmlformats.org/officeDocument/2006/relationships/slide" Target="slide74.xml"/><Relationship Id="rId4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32.xml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7.xml"/><Relationship Id="rId4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8.xml"/><Relationship Id="rId4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49.xml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0.xml"/><Relationship Id="rId5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68.xml"/><Relationship Id="rId3" Type="http://schemas.openxmlformats.org/officeDocument/2006/relationships/slideLayout" Target="../slideLayouts/slideLayout7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69.xml"/><Relationship Id="rId4" Type="http://schemas.openxmlformats.org/officeDocument/2006/relationships/slideLayout" Target="../slideLayouts/slideLayout7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70.xml"/><Relationship Id="rId4" Type="http://schemas.openxmlformats.org/officeDocument/2006/relationships/slideLayout" Target="../slideLayouts/slideLayout7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7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3">
            <a:hlinkClick r:id="rId2" action="ppaction://hlinksldjump"/>
          </p:cNvPr>
          <p:cNvSpPr/>
          <p:nvPr/>
        </p:nvSpPr>
        <p:spPr>
          <a:xfrm>
            <a:off x="838080" y="1981080"/>
            <a:ext cx="83844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4">
            <a:hlinkClick r:id="rId3" action="ppaction://hlinksldjump"/>
          </p:cNvPr>
          <p:cNvSpPr/>
          <p:nvPr/>
        </p:nvSpPr>
        <p:spPr>
          <a:xfrm>
            <a:off x="838080" y="274320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5">
            <a:hlinkClick r:id="rId4" action="ppaction://hlinksldjump"/>
          </p:cNvPr>
          <p:cNvSpPr/>
          <p:nvPr/>
        </p:nvSpPr>
        <p:spPr>
          <a:xfrm>
            <a:off x="838080" y="350532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6">
            <a:hlinkClick r:id="rId5" action="ppaction://hlinksldjump"/>
          </p:cNvPr>
          <p:cNvSpPr/>
          <p:nvPr/>
        </p:nvSpPr>
        <p:spPr>
          <a:xfrm>
            <a:off x="838080" y="4267080"/>
            <a:ext cx="838440" cy="60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7">
            <a:hlinkClick r:id="rId6" action="ppaction://hlinksldjump"/>
          </p:cNvPr>
          <p:cNvSpPr/>
          <p:nvPr/>
        </p:nvSpPr>
        <p:spPr>
          <a:xfrm>
            <a:off x="2153880" y="137160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8">
            <a:hlinkClick r:id="rId7" action="ppaction://hlinksldjump"/>
          </p:cNvPr>
          <p:cNvSpPr/>
          <p:nvPr/>
        </p:nvSpPr>
        <p:spPr>
          <a:xfrm>
            <a:off x="3456360" y="152388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ic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9">
            <a:hlinkClick r:id="rId8" action="ppaction://hlinksldjump"/>
          </p:cNvPr>
          <p:cNvSpPr/>
          <p:nvPr/>
        </p:nvSpPr>
        <p:spPr>
          <a:xfrm>
            <a:off x="4728960" y="1371600"/>
            <a:ext cx="88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ightf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">
            <a:hlinkClick r:id="rId9" action="ppaction://hlinksldjump"/>
          </p:cNvPr>
          <p:cNvSpPr/>
          <p:nvPr/>
        </p:nvSpPr>
        <p:spPr>
          <a:xfrm>
            <a:off x="6047280" y="137160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b Equ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amp;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1">
            <a:hlinkClick r:id="rId10" action="ppaction://hlinksldjump"/>
          </p:cNvPr>
          <p:cNvSpPr/>
          <p:nvPr/>
        </p:nvSpPr>
        <p:spPr>
          <a:xfrm>
            <a:off x="7319160" y="137160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ld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8200" y="240840"/>
            <a:ext cx="8037360" cy="10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Alchemy: Sections I &amp; I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4" name="Text Box 13">
            <a:hlinkClick r:id="rId12" action="ppaction://hlinksldjump"/>
          </p:cNvPr>
          <p:cNvSpPr/>
          <p:nvPr/>
        </p:nvSpPr>
        <p:spPr>
          <a:xfrm>
            <a:off x="840960" y="1371600"/>
            <a:ext cx="5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14">
            <a:hlinkClick r:id="rId13" action="ppaction://hlinksldjump"/>
          </p:cNvPr>
          <p:cNvSpPr/>
          <p:nvPr/>
        </p:nvSpPr>
        <p:spPr>
          <a:xfrm>
            <a:off x="838080" y="502920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Rectangle 15">
            <a:hlinkClick r:id="rId14" action="ppaction://hlinksldjump"/>
          </p:cNvPr>
          <p:cNvSpPr/>
          <p:nvPr/>
        </p:nvSpPr>
        <p:spPr>
          <a:xfrm>
            <a:off x="838080" y="5791320"/>
            <a:ext cx="838440" cy="6094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6">
            <a:hlinkClick r:id="rId15" action="ppaction://hlinksldjump"/>
          </p:cNvPr>
          <p:cNvSpPr/>
          <p:nvPr/>
        </p:nvSpPr>
        <p:spPr>
          <a:xfrm>
            <a:off x="2133720" y="1981080"/>
            <a:ext cx="8380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17">
            <a:hlinkClick r:id="rId16" action="ppaction://hlinksldjump"/>
          </p:cNvPr>
          <p:cNvSpPr/>
          <p:nvPr/>
        </p:nvSpPr>
        <p:spPr>
          <a:xfrm>
            <a:off x="2133720" y="274320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18">
            <a:hlinkClick r:id="rId17" action="ppaction://hlinksldjump"/>
          </p:cNvPr>
          <p:cNvSpPr/>
          <p:nvPr/>
        </p:nvSpPr>
        <p:spPr>
          <a:xfrm>
            <a:off x="2133720" y="350532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19">
            <a:hlinkClick r:id="rId18" action="ppaction://hlinksldjump"/>
          </p:cNvPr>
          <p:cNvSpPr/>
          <p:nvPr/>
        </p:nvSpPr>
        <p:spPr>
          <a:xfrm>
            <a:off x="2133720" y="4267080"/>
            <a:ext cx="8380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20">
            <a:hlinkClick r:id="rId19" action="ppaction://hlinksldjump"/>
          </p:cNvPr>
          <p:cNvSpPr/>
          <p:nvPr/>
        </p:nvSpPr>
        <p:spPr>
          <a:xfrm>
            <a:off x="2133720" y="502920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21">
            <a:hlinkClick r:id="rId20" action="ppaction://hlinksldjump"/>
          </p:cNvPr>
          <p:cNvSpPr/>
          <p:nvPr/>
        </p:nvSpPr>
        <p:spPr>
          <a:xfrm>
            <a:off x="2133720" y="5791320"/>
            <a:ext cx="8380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22">
            <a:hlinkClick r:id="rId21" action="ppaction://hlinksldjump"/>
          </p:cNvPr>
          <p:cNvSpPr/>
          <p:nvPr/>
        </p:nvSpPr>
        <p:spPr>
          <a:xfrm>
            <a:off x="3429000" y="1981080"/>
            <a:ext cx="83808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23">
            <a:hlinkClick r:id="rId22" action="ppaction://hlinksldjump"/>
          </p:cNvPr>
          <p:cNvSpPr/>
          <p:nvPr/>
        </p:nvSpPr>
        <p:spPr>
          <a:xfrm>
            <a:off x="3429000" y="274320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24">
            <a:hlinkClick r:id="rId23" action="ppaction://hlinksldjump"/>
          </p:cNvPr>
          <p:cNvSpPr/>
          <p:nvPr/>
        </p:nvSpPr>
        <p:spPr>
          <a:xfrm>
            <a:off x="3429000" y="350532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25">
            <a:hlinkClick r:id="rId24" action="ppaction://hlinksldjump"/>
          </p:cNvPr>
          <p:cNvSpPr/>
          <p:nvPr/>
        </p:nvSpPr>
        <p:spPr>
          <a:xfrm>
            <a:off x="3429000" y="4267080"/>
            <a:ext cx="83808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26">
            <a:hlinkClick r:id="rId25" action="ppaction://hlinksldjump"/>
          </p:cNvPr>
          <p:cNvSpPr/>
          <p:nvPr/>
        </p:nvSpPr>
        <p:spPr>
          <a:xfrm>
            <a:off x="3429000" y="502920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27">
            <a:hlinkClick r:id="rId26" action="ppaction://hlinksldjump"/>
          </p:cNvPr>
          <p:cNvSpPr/>
          <p:nvPr/>
        </p:nvSpPr>
        <p:spPr>
          <a:xfrm>
            <a:off x="3429000" y="5791320"/>
            <a:ext cx="83808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28">
            <a:hlinkClick r:id="rId27" action="ppaction://hlinksldjump"/>
          </p:cNvPr>
          <p:cNvSpPr/>
          <p:nvPr/>
        </p:nvSpPr>
        <p:spPr>
          <a:xfrm>
            <a:off x="4724280" y="1981080"/>
            <a:ext cx="8384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29">
            <a:hlinkClick r:id="rId28" action="ppaction://hlinksldjump"/>
          </p:cNvPr>
          <p:cNvSpPr/>
          <p:nvPr/>
        </p:nvSpPr>
        <p:spPr>
          <a:xfrm>
            <a:off x="4724280" y="274320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30">
            <a:hlinkClick r:id="rId29" action="ppaction://hlinksldjump"/>
          </p:cNvPr>
          <p:cNvSpPr/>
          <p:nvPr/>
        </p:nvSpPr>
        <p:spPr>
          <a:xfrm>
            <a:off x="4724280" y="350532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31">
            <a:hlinkClick r:id="rId30" action="ppaction://hlinksldjump"/>
          </p:cNvPr>
          <p:cNvSpPr/>
          <p:nvPr/>
        </p:nvSpPr>
        <p:spPr>
          <a:xfrm>
            <a:off x="4724280" y="4267080"/>
            <a:ext cx="838440" cy="609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32">
            <a:hlinkClick r:id="rId31" action="ppaction://hlinksldjump"/>
          </p:cNvPr>
          <p:cNvSpPr/>
          <p:nvPr/>
        </p:nvSpPr>
        <p:spPr>
          <a:xfrm>
            <a:off x="4724280" y="502920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33">
            <a:hlinkClick r:id="rId32" action="ppaction://hlinksldjump"/>
          </p:cNvPr>
          <p:cNvSpPr/>
          <p:nvPr/>
        </p:nvSpPr>
        <p:spPr>
          <a:xfrm>
            <a:off x="4724280" y="5791320"/>
            <a:ext cx="838440" cy="6094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34">
            <a:hlinkClick r:id="rId33" action="ppaction://hlinksldjump"/>
          </p:cNvPr>
          <p:cNvSpPr/>
          <p:nvPr/>
        </p:nvSpPr>
        <p:spPr>
          <a:xfrm>
            <a:off x="6019920" y="1981080"/>
            <a:ext cx="838080" cy="60984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35">
            <a:hlinkClick r:id="rId34" action="ppaction://hlinksldjump"/>
          </p:cNvPr>
          <p:cNvSpPr/>
          <p:nvPr/>
        </p:nvSpPr>
        <p:spPr>
          <a:xfrm>
            <a:off x="6019920" y="274320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36">
            <a:hlinkClick r:id="rId35" action="ppaction://hlinksldjump"/>
          </p:cNvPr>
          <p:cNvSpPr/>
          <p:nvPr/>
        </p:nvSpPr>
        <p:spPr>
          <a:xfrm>
            <a:off x="6019920" y="350532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37">
            <a:hlinkClick r:id="rId36" action="ppaction://hlinksldjump"/>
          </p:cNvPr>
          <p:cNvSpPr/>
          <p:nvPr/>
        </p:nvSpPr>
        <p:spPr>
          <a:xfrm>
            <a:off x="6019920" y="4267080"/>
            <a:ext cx="838080" cy="60984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38">
            <a:hlinkClick r:id="rId37" action="ppaction://hlinksldjump"/>
          </p:cNvPr>
          <p:cNvSpPr/>
          <p:nvPr/>
        </p:nvSpPr>
        <p:spPr>
          <a:xfrm>
            <a:off x="6019920" y="502920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39">
            <a:hlinkClick r:id="rId38" action="ppaction://hlinksldjump"/>
          </p:cNvPr>
          <p:cNvSpPr/>
          <p:nvPr/>
        </p:nvSpPr>
        <p:spPr>
          <a:xfrm>
            <a:off x="6019920" y="5791320"/>
            <a:ext cx="838080" cy="609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40">
            <a:hlinkClick r:id="rId39" action="ppaction://hlinksldjump"/>
          </p:cNvPr>
          <p:cNvSpPr/>
          <p:nvPr/>
        </p:nvSpPr>
        <p:spPr>
          <a:xfrm>
            <a:off x="7315200" y="1981080"/>
            <a:ext cx="8380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41">
            <a:hlinkClick r:id="rId40" action="ppaction://hlinksldjump"/>
          </p:cNvPr>
          <p:cNvSpPr/>
          <p:nvPr/>
        </p:nvSpPr>
        <p:spPr>
          <a:xfrm>
            <a:off x="7315200" y="274320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42">
            <a:hlinkClick r:id="rId41" action="ppaction://hlinksldjump"/>
          </p:cNvPr>
          <p:cNvSpPr/>
          <p:nvPr/>
        </p:nvSpPr>
        <p:spPr>
          <a:xfrm>
            <a:off x="7315200" y="350532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43">
            <a:hlinkClick r:id="rId42" action="ppaction://hlinksldjump"/>
          </p:cNvPr>
          <p:cNvSpPr/>
          <p:nvPr/>
        </p:nvSpPr>
        <p:spPr>
          <a:xfrm>
            <a:off x="7315200" y="4267080"/>
            <a:ext cx="838080" cy="6098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44">
            <a:hlinkClick r:id="rId43" action="ppaction://hlinksldjump"/>
          </p:cNvPr>
          <p:cNvSpPr/>
          <p:nvPr/>
        </p:nvSpPr>
        <p:spPr>
          <a:xfrm>
            <a:off x="7315200" y="502920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45">
            <a:hlinkClick r:id="rId44" action="ppaction://hlinksldjump"/>
          </p:cNvPr>
          <p:cNvSpPr/>
          <p:nvPr/>
        </p:nvSpPr>
        <p:spPr>
          <a:xfrm>
            <a:off x="7315200" y="5791320"/>
            <a:ext cx="83808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46">
            <a:hlinkClick r:id="rId45" action="ppaction://hlinksldjump"/>
          </p:cNvPr>
          <p:cNvSpPr/>
          <p:nvPr/>
        </p:nvSpPr>
        <p:spPr>
          <a:xfrm flipH="1">
            <a:off x="1066680" y="6477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7">
            <a:hlinkClick r:id="rId46" action="ppaction://hlinksldjump"/>
          </p:cNvPr>
          <p:cNvSpPr/>
          <p:nvPr/>
        </p:nvSpPr>
        <p:spPr>
          <a:xfrm>
            <a:off x="1221840" y="65214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3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286000" y="3200400"/>
            <a:ext cx="4952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 compound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tomic #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4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5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1600200" y="27432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reactivity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6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2057400" y="2743200"/>
            <a:ext cx="3657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n intensive property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1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4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1143000" y="1981080"/>
            <a:ext cx="693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efinition of densit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2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1676520" y="2209680"/>
            <a:ext cx="624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formula for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ensit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3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2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1295280" y="1981080"/>
            <a:ext cx="68580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ensity of gold (Au) ring is 19.3 g/mL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ensity of a gold (Au) necklace is: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4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609480" y="22860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6"/>
          <p:cNvSpPr/>
          <p:nvPr/>
        </p:nvSpPr>
        <p:spPr>
          <a:xfrm>
            <a:off x="1066680" y="167652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Item with a larger density: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Picture 7" descr=""/>
          <p:cNvPicPr/>
          <p:nvPr/>
        </p:nvPicPr>
        <p:blipFill>
          <a:blip r:embed="rId4"/>
          <a:stretch/>
        </p:blipFill>
        <p:spPr>
          <a:xfrm>
            <a:off x="2514600" y="2438280"/>
            <a:ext cx="3639960" cy="3353040"/>
          </a:xfrm>
          <a:prstGeom prst="rect">
            <a:avLst/>
          </a:prstGeom>
          <a:ln w="0">
            <a:noFill/>
          </a:ln>
        </p:spPr>
      </p:pic>
      <p:sp>
        <p:nvSpPr>
          <p:cNvPr id="760" name="TextBox 7"/>
          <p:cNvSpPr/>
          <p:nvPr/>
        </p:nvSpPr>
        <p:spPr>
          <a:xfrm>
            <a:off x="2514240" y="4572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oc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Box 8"/>
          <p:cNvSpPr/>
          <p:nvPr/>
        </p:nvSpPr>
        <p:spPr>
          <a:xfrm>
            <a:off x="4654080" y="46483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oc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5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1752480" y="2286000"/>
            <a:ext cx="5715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Value for the density of liquid water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6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1447920" y="2057400"/>
            <a:ext cx="63244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ill an object with a higher density displace more water than an object with a lower density? Explain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1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92880" y="3780000"/>
            <a:ext cx="3679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914400" y="251460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ble with elements organized in order of increasing atomic number and grouped so that elements with similar properties are in vertical column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1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"/>
          <p:cNvSpPr/>
          <p:nvPr/>
        </p:nvSpPr>
        <p:spPr>
          <a:xfrm>
            <a:off x="1219320" y="190512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mass per unit volume (amount of matter in a given space)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nsity 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2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1295280" y="2514600"/>
            <a:ext cx="54104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is d = m/V? 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nsity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- 3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5"/>
          <p:cNvSpPr/>
          <p:nvPr/>
        </p:nvSpPr>
        <p:spPr>
          <a:xfrm>
            <a:off x="1828800" y="236232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19.3 g/mL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4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1828800" y="251460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Block A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>
            <a:hlinkClick r:id="rId1" action="ppaction://hlinksldjump"/>
          </p:cNvPr>
          <p:cNvSpPr/>
          <p:nvPr/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5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1219320" y="2743200"/>
            <a:ext cx="723888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is 1.0 g/mL or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1.0 g/cm</a:t>
            </a:r>
            <a:r>
              <a:rPr b="0" lang="en-US" sz="55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nsity- 600 Answ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1371600" y="1600200"/>
            <a:ext cx="70866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not necessaril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arger object (volume) will displace more water than a smaller object, regardless of the den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 - 1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2133720" y="1905120"/>
            <a:ext cx="685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Father of the periodic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abl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2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0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1752480" y="1523880"/>
            <a:ext cx="70106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2819520" y="1523880"/>
            <a:ext cx="527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Number of Periods: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3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5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2133720" y="1676520"/>
            <a:ext cx="6781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Elements 57 to 70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4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9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6"/>
          <p:cNvSpPr/>
          <p:nvPr/>
        </p:nvSpPr>
        <p:spPr>
          <a:xfrm>
            <a:off x="2438280" y="2133720"/>
            <a:ext cx="670572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ocation of transition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metals/element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2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1219320" y="22860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ter cannot be lost or gained in a chemical reaction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5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3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1447920" y="2286000"/>
            <a:ext cx="7696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Group 2 elements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60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7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2362320" y="1523880"/>
            <a:ext cx="586728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ocation of main-group elemen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1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1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5"/>
          <p:cNvSpPr/>
          <p:nvPr/>
        </p:nvSpPr>
        <p:spPr>
          <a:xfrm>
            <a:off x="2666880" y="2133720"/>
            <a:ext cx="5791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o is Mendeleev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2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5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5"/>
          <p:cNvSpPr/>
          <p:nvPr/>
        </p:nvSpPr>
        <p:spPr>
          <a:xfrm>
            <a:off x="1752480" y="2286000"/>
            <a:ext cx="7010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are seven periods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3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29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762120" y="2590920"/>
            <a:ext cx="723888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the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lanthanide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4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3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457200" y="29718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roups 3-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5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37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1143000" y="2514600"/>
            <a:ext cx="74674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alkaline-ear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ls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Periodic Table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 - 600 Answer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1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5"/>
          <p:cNvSpPr/>
          <p:nvPr/>
        </p:nvSpPr>
        <p:spPr>
          <a:xfrm>
            <a:off x="1219320" y="23623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Groups 1, 2, 13-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75780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5">
            <a:hlinkClick r:id="" action="ppaction://hlinkshowjump?jump=previousslide"/>
          </p:cNvPr>
          <p:cNvSpPr/>
          <p:nvPr/>
        </p:nvSpPr>
        <p:spPr>
          <a:xfrm>
            <a:off x="1219320" y="5486400"/>
            <a:ext cx="3809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1295280" y="25146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atomic # and atomic ma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2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5">
            <a:hlinkClick r:id="" action="ppaction://hlinkshowjump?jump=previousslide"/>
          </p:cNvPr>
          <p:cNvSpPr/>
          <p:nvPr/>
        </p:nvSpPr>
        <p:spPr>
          <a:xfrm>
            <a:off x="1066680" y="4952880"/>
            <a:ext cx="4953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6"/>
          <p:cNvSpPr/>
          <p:nvPr/>
        </p:nvSpPr>
        <p:spPr>
          <a:xfrm>
            <a:off x="1371600" y="236232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intensive and extensive proper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3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5">
            <a:hlinkClick r:id="" action="ppaction://hlinkshowjump?jump=previousslide"/>
          </p:cNvPr>
          <p:cNvSpPr/>
          <p:nvPr/>
        </p:nvSpPr>
        <p:spPr>
          <a:xfrm>
            <a:off x="609480" y="3809880"/>
            <a:ext cx="5029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1219320" y="251460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re substance that is a chemical combination of two or more elements in a specific ratio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3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5">
            <a:hlinkClick r:id="" action="ppaction://hlinkshowjump?jump=previousslide"/>
          </p:cNvPr>
          <p:cNvSpPr/>
          <p:nvPr/>
        </p:nvSpPr>
        <p:spPr>
          <a:xfrm>
            <a:off x="914400" y="50292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6"/>
          <p:cNvSpPr/>
          <p:nvPr/>
        </p:nvSpPr>
        <p:spPr>
          <a:xfrm>
            <a:off x="1295280" y="24382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he difference between mass and volume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4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5">
            <a:hlinkClick r:id="" action="ppaction://hlinkshowjump?jump=previousslide"/>
          </p:cNvPr>
          <p:cNvSpPr/>
          <p:nvPr/>
        </p:nvSpPr>
        <p:spPr>
          <a:xfrm>
            <a:off x="1295280" y="426708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609480" y="236232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a physical change and a chemical chang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5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Rectangle 5">
            <a:hlinkClick r:id="" action="ppaction://hlinkshowjump?jump=previousslide"/>
          </p:cNvPr>
          <p:cNvSpPr/>
          <p:nvPr/>
        </p:nvSpPr>
        <p:spPr>
          <a:xfrm>
            <a:off x="1295280" y="3886200"/>
            <a:ext cx="5105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523880" y="2438280"/>
            <a:ext cx="58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an element and a compou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6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5">
            <a:hlinkClick r:id="" action="ppaction://hlinkshowjump?jump=previousslide"/>
          </p:cNvPr>
          <p:cNvSpPr/>
          <p:nvPr/>
        </p:nvSpPr>
        <p:spPr>
          <a:xfrm>
            <a:off x="1219320" y="4876920"/>
            <a:ext cx="48765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6"/>
          <p:cNvSpPr/>
          <p:nvPr/>
        </p:nvSpPr>
        <p:spPr>
          <a:xfrm>
            <a:off x="1295280" y="24382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ifference between aqueous and liquid phas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1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5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838080" y="2666880"/>
            <a:ext cx="75438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# of protons (atomic #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Vs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Mass of an atom (atomic mass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2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9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914400" y="2514600"/>
            <a:ext cx="71629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independent of type/amount of matter (intens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pends on type/amount of matter (extensiv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">
            <a:hlinkClick r:id="rId1" action="ppaction://hlinksldjump"/>
          </p:cNvPr>
          <p:cNvSpPr/>
          <p:nvPr/>
        </p:nvSpPr>
        <p:spPr>
          <a:xfrm>
            <a:off x="-304920" y="-3808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3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3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1828800" y="2819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990720" y="2362320"/>
            <a:ext cx="6858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mount of matter (mas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ount of space an ob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kes up (volum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4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8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5"/>
          <p:cNvSpPr/>
          <p:nvPr/>
        </p:nvSpPr>
        <p:spPr>
          <a:xfrm>
            <a:off x="685800" y="2286000"/>
            <a:ext cx="7696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hange that converts substances into something new (chemical) and a change that does not involve a change in the identity of the substance (physica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5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2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1143000" y="2362320"/>
            <a:ext cx="7162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wo or more elements combined (compou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ngle type of atom (elemen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Delightful Differences - 600 Answ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6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5"/>
          <p:cNvSpPr/>
          <p:nvPr/>
        </p:nvSpPr>
        <p:spPr>
          <a:xfrm>
            <a:off x="990720" y="2209680"/>
            <a:ext cx="71625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issolved in water to make a solution (aqueou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quid form of matter (liqui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4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5">
            <a:hlinkClick r:id="" action="ppaction://hlinkshowjump?jump=previousslide"/>
          </p:cNvPr>
          <p:cNvSpPr/>
          <p:nvPr/>
        </p:nvSpPr>
        <p:spPr>
          <a:xfrm>
            <a:off x="839880" y="3728880"/>
            <a:ext cx="4954320" cy="6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6"/>
          <p:cNvSpPr/>
          <p:nvPr/>
        </p:nvSpPr>
        <p:spPr>
          <a:xfrm>
            <a:off x="838080" y="236232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ecutive whole numbers associated with the elements on the periodic table; equal to the # of protons in the nucleus of an element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- 1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5"/>
          <p:cNvSpPr/>
          <p:nvPr/>
        </p:nvSpPr>
        <p:spPr>
          <a:xfrm>
            <a:off x="1219320" y="22096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ould be worn for every laboratory experi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2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5"/>
          <p:cNvSpPr/>
          <p:nvPr/>
        </p:nvSpPr>
        <p:spPr>
          <a:xfrm>
            <a:off x="914400" y="2438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d to measure ma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3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5"/>
          <p:cNvSpPr/>
          <p:nvPr/>
        </p:nvSpPr>
        <p:spPr>
          <a:xfrm>
            <a:off x="1219320" y="22860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d to most precisely measure volume of a 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4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914400" y="2438280"/>
            <a:ext cx="716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Parking space # in which to meet for fire drill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5"/>
          <p:cNvSpPr/>
          <p:nvPr/>
        </p:nvSpPr>
        <p:spPr>
          <a:xfrm>
            <a:off x="762120" y="205740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3 pieces of lab equipment used in a filtr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6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4">
            <a:hlinkClick r:id="rId4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6"/>
          <p:cNvSpPr/>
          <p:nvPr/>
        </p:nvSpPr>
        <p:spPr>
          <a:xfrm>
            <a:off x="1905120" y="2362320"/>
            <a:ext cx="5333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 equipment used for stirring a solution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scraping a sol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1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5"/>
          <p:cNvSpPr/>
          <p:nvPr/>
        </p:nvSpPr>
        <p:spPr>
          <a:xfrm>
            <a:off x="1295280" y="2362320"/>
            <a:ext cx="655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are goggles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2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1447920" y="2819520"/>
            <a:ext cx="556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a balance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3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5"/>
          <p:cNvSpPr/>
          <p:nvPr/>
        </p:nvSpPr>
        <p:spPr>
          <a:xfrm>
            <a:off x="914400" y="2743200"/>
            <a:ext cx="6934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 graduated cylinder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4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1143000" y="2590920"/>
            <a:ext cx="5638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Space 105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5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5">
            <a:hlinkClick r:id="" action="ppaction://hlinkshowjump?jump=previousslide"/>
          </p:cNvPr>
          <p:cNvSpPr/>
          <p:nvPr/>
        </p:nvSpPr>
        <p:spPr>
          <a:xfrm>
            <a:off x="838080" y="403848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1371600" y="2819520"/>
            <a:ext cx="6172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erty describing how easily an element will combine with other substances to form new compou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5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1066680" y="2590920"/>
            <a:ext cx="6705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are ring stand, metal ring, funnel, filter paper, or beaker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Lab Equip &amp; Safety </a:t>
            </a:r>
            <a:r>
              <a:rPr b="0" lang="en-US" sz="3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- 600 Answ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4">
            <a:hlinkClick r:id="rId4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1371600" y="228600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is a rubber policeman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1" action="ppaction://hlinksldjump"/>
              </a:rPr>
              <a:t>Wildcard - 1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Rectangle 4">
            <a:hlinkClick r:id="rId2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6"/>
          <p:cNvSpPr/>
          <p:nvPr/>
        </p:nvSpPr>
        <p:spPr>
          <a:xfrm>
            <a:off x="2438280" y="2819520"/>
            <a:ext cx="480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8"/>
          <p:cNvSpPr/>
          <p:nvPr/>
        </p:nvSpPr>
        <p:spPr>
          <a:xfrm>
            <a:off x="1279440" y="2550960"/>
            <a:ext cx="588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name of Group 17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Wildcard - 2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6"/>
          <p:cNvSpPr/>
          <p:nvPr/>
        </p:nvSpPr>
        <p:spPr>
          <a:xfrm>
            <a:off x="1676520" y="281952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ncient branch of science in which “gold” was produc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</a:t>
            </a: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 - 3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6"/>
          <p:cNvSpPr/>
          <p:nvPr/>
        </p:nvSpPr>
        <p:spPr>
          <a:xfrm>
            <a:off x="1676520" y="2438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Elements with some properties of metals and some properties of nonmetal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Wildcard - 4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5"/>
          <p:cNvSpPr/>
          <p:nvPr/>
        </p:nvSpPr>
        <p:spPr>
          <a:xfrm>
            <a:off x="1676520" y="27432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ocation of the transition metals on the periodic 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5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990720" y="2286000"/>
            <a:ext cx="7315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The elements represented by the symbols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u, Au, and K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74200" y="591840"/>
            <a:ext cx="8001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6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828800" y="2590920"/>
            <a:ext cx="601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f the two series placed below the periodic ta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1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1676520" y="2590920"/>
            <a:ext cx="5790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at are the halogens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2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2743200" y="3048120"/>
            <a:ext cx="36576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What is alchemy?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60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Rectangle 4">
            <a:hlinkClick r:id="rId3" action="ppaction://hlinksldjump"/>
          </p:cNvPr>
          <p:cNvSpPr/>
          <p:nvPr/>
        </p:nvSpPr>
        <p:spPr>
          <a:xfrm>
            <a:off x="3657600" y="6019920"/>
            <a:ext cx="1676520" cy="533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5">
            <a:hlinkClick r:id="" action="ppaction://hlinkshowjump?jump=previousslide"/>
          </p:cNvPr>
          <p:cNvSpPr/>
          <p:nvPr/>
        </p:nvSpPr>
        <p:spPr>
          <a:xfrm>
            <a:off x="685800" y="3505320"/>
            <a:ext cx="4876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838080" y="2057400"/>
            <a:ext cx="72392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es not depend on the size, shape, or amount of matter present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pends on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matter or mater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3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5"/>
          <p:cNvSpPr/>
          <p:nvPr/>
        </p:nvSpPr>
        <p:spPr>
          <a:xfrm>
            <a:off x="2133720" y="2514600"/>
            <a:ext cx="5105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metalloid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4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5"/>
          <p:cNvSpPr/>
          <p:nvPr/>
        </p:nvSpPr>
        <p:spPr>
          <a:xfrm>
            <a:off x="1295280" y="2133720"/>
            <a:ext cx="7010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Groups 3-12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5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5"/>
          <p:cNvSpPr/>
          <p:nvPr/>
        </p:nvSpPr>
        <p:spPr>
          <a:xfrm>
            <a:off x="1371600" y="251460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are copper, gold, and potassium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74200" y="593280"/>
            <a:ext cx="80010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ldcard - 600 Answ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AutoShape 4">
            <a:hlinkClick r:id="rId1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5"/>
          <p:cNvSpPr/>
          <p:nvPr/>
        </p:nvSpPr>
        <p:spPr>
          <a:xfrm>
            <a:off x="1676520" y="297180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are lanthanide and actinide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se questions have come from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 Bank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ates, Moore, and Starnes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actice of Statistics, 2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Michael A. Flinger and William I. No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AutoShape 4">
            <a:hlinkClick r:id="rId1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1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143000" y="2438280"/>
            <a:ext cx="7238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the periodic table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Vital Vocab - 200 Ans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AutoShape 4">
            <a:hlinkClick r:id="rId3" action="ppaction://hlinksldjump"/>
          </p:cNvPr>
          <p:cNvSpPr/>
          <p:nvPr/>
        </p:nvSpPr>
        <p:spPr>
          <a:xfrm>
            <a:off x="68580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1143000" y="2514600"/>
            <a:ext cx="70102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at is the law of conservation of matter (mass)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23:49:27Z</dcterms:created>
  <dc:creator>Great Valley High School</dc:creator>
  <dc:description/>
  <dc:language>en-US</dc:language>
  <cp:lastModifiedBy>Great Valley High School</cp:lastModifiedBy>
  <dcterms:modified xsi:type="dcterms:W3CDTF">2011-01-13T13:26:47Z</dcterms:modified>
  <cp:revision>23</cp:revision>
  <dc:subject/>
  <dc:title>Thermochemistry Jeopardy</dc:title>
</cp:coreProperties>
</file>